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3B2-455F-4D76-A145-681CC755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F25-2F9D-4FAC-B4AB-A4A35CFF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FD1-92CE-42E1-87FC-6C2BA99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D16-22A0-4FE0-899E-7E81A76B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E81-32ED-4D33-A94E-6BD8EBA7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FB2-2A22-49C0-BA4C-3B6551B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CA5-893C-4743-A346-4ACA398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6FB-BC1D-41C3-BAC4-45030F31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F6F-8AD7-4C0B-8C32-4A718F2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D9F-B648-4EFA-88EF-8566D82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EBA-5198-498E-9189-F564E350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CE8-8C02-4630-96C2-B4FC006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8B3-8BC3-470E-B477-9BEAD13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F51-CB10-4BB1-9CEF-AAFD98AE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5-02-25T10:48:39Z</dcterms:modified>
  <cp:revision>48</cp:revision>
  <dc:subject/>
  <dc:title>PowerPoint Presentation</dc:title>
</cp:coreProperties>
</file>